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77.xml.rels" ContentType="application/vnd.openxmlformats-package.relationships+xml"/>
  <Override PartName="/ppt/slides/_rels/slide147.xml.rels" ContentType="application/vnd.openxmlformats-package.relationships+xml"/>
  <Override PartName="/ppt/slides/_rels/slide18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6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17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79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7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AEAD-B1FD-4CB2-9CBC-32CD0D5D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2061-6A95-4891-B702-0757B762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8D32-98EE-4349-9D33-422412F8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D7D5-A711-4D45-979E-1FAD3963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C5E0-197D-43F6-AC2E-6C083364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12F9-34B7-46DC-A8B8-A47F2C83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A515-5CE6-4CF0-AEE5-E6E87C6A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9F1C-1B40-4235-8FAE-5C068019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2441-C719-435A-908E-393D50EA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EF08-274D-48FF-BBA5-D40B4438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1EF9-DCE3-4201-91F3-7688949D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3E1A-00E1-42B8-AF92-D4E6DAD0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9514-E6E9-4EB2-82C2-6167177A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7FD2-D2FB-4BC3-8890-86D80D5E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B700-3120-4D9F-86DE-684B401F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CFA2-F9E4-4BD1-A79F-54476539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B7B8-8811-49E7-B5B6-DFC0730F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08C9-9A29-4B26-9139-7236FCDB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8221-F45D-4AF0-AF49-A44D4A1C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04C5-1596-4E06-86CA-C1515819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8FE5-283F-40C0-A8F5-7BC833DD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16E3-097C-4845-AF19-A13116ED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3E5C-1BD1-4170-8745-8CAA402F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0CC1-E7AC-416E-9C0E-AFE14AB1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1" name="Rectangle 3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239760" y="222120"/>
              <a:ext cx="8682120" cy="64389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6699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7BCD-75AF-4DFB-A988-38F4105F2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47" name="Rectangle 3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4"/>
            <p:cNvSpPr/>
            <p:nvPr/>
          </p:nvSpPr>
          <p:spPr>
            <a:xfrm>
              <a:off x="239760" y="222120"/>
              <a:ext cx="8682120" cy="64389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6699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2B56-8590-4EBE-9869-8D749CE2D8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5704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happens when we do the wrong thing?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ick to listen to the story.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30" descr="Signmaker's Assistant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438280" y="2362320"/>
            <a:ext cx="4524480" cy="36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nda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523880" y="2438280"/>
          <a:ext cx="6096240" cy="3213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aught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do the right thing. Sometimes it's hard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ough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What happens when we do the wrong thing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Verdana"/>
                <a:ea typeface="Arial"/>
              </a:rPr>
              <a:t>troublemak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trou – ble – mak - er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troublemaker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often intentionally causes difficulties or proble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troublemaker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threw the ball over the fe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troublemaker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cut in line in front of m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, gh /f/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ras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lau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k at these words.  You can read these words because you know that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an stand for the sound 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/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, gh /f/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your phone numb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, gh /f/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your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numb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ck has a cold and a coug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, gh /f/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your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numb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ck has a cold and a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oug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m took many photos on our tri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, gh /f/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your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numb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ck has a cold and a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oug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m took many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oto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n our tri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you studied enough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, gh /f/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your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numb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ck has a cold and a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oug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m took many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oto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n our tri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you studied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enoug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learned about graphs in ma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, gh /f/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your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numb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ck has a cold and a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oug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m took many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oto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n our tri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you studied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enoug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learned about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graph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ma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905120" y="2514600"/>
          <a:ext cx="5486400" cy="3438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905120" y="2514600"/>
          <a:ext cx="5486400" cy="371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you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wel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w, au, augh, 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sm and Fanta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 &amp; Fix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1905120" y="2514600"/>
          <a:ext cx="5486400" cy="371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905120" y="2514600"/>
          <a:ext cx="5486400" cy="371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905120" y="2514600"/>
          <a:ext cx="5486400" cy="371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905120" y="2514600"/>
          <a:ext cx="5486400" cy="371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to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905120" y="2514600"/>
          <a:ext cx="5486400" cy="371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to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905120" y="2514600"/>
          <a:ext cx="5486400" cy="371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to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905120" y="2514600"/>
          <a:ext cx="5486400" cy="371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to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p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2971800" y="1676520"/>
          <a:ext cx="3352680" cy="41385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1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orta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mak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wnspeo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terno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</a:t>
            </a:r>
            <a:br>
              <a:rPr sz="4000"/>
            </a:b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Read the questions and answer with a one-sentence answer, using the vocabulary words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good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de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ght help you get up on time in the morn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most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mporta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ing you have learned tod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uld you take the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bla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ometh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might you need to hire a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ignmak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are some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ownspeo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you kn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hings can you do in the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afterno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you can’t do in the morning or at nigh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895480" y="1523880"/>
          <a:ext cx="3353040" cy="465156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67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hi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ybo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i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6002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990720" y="1752480"/>
          <a:ext cx="2514600" cy="41911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u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3733920" y="1523880"/>
          <a:ext cx="4572000" cy="46753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                ta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        th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           fa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            laun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ppla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k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die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lk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k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ound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notice about the word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ignmak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made up of two separate words: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ig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mak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ds that are made up of two or more words put together are called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compound wor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sometimes figure out what a compound word means if you know the meanings of the words that make up the compound wo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ignmak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person who makes sig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ound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Use these words to make compound w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w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05160" y="289548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signmak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townspeo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afterno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ill playyed a joke on 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Bill played a joke on he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he would’nt talk to he all da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She wouldn’t talk to him all day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9900"/>
              </a:buClr>
              <a:buSzPct val="75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con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a short way to put two words toget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apostroph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*) takes the place of one or more lett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Contraction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an be formed by putting together a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pronou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another word, such as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will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are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Do you think Norman should or </a:t>
            </a:r>
            <a:r>
              <a:rPr b="0" i="1" lang="en-US" sz="3600" spc="-1" strike="noStrike" u="sng">
                <a:solidFill>
                  <a:srgbClr val="ff0033"/>
                </a:solidFill>
                <a:uFillTx/>
                <a:latin typeface="Arial"/>
              </a:rPr>
              <a:t>should not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 have used signs to trick peopl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uld not   -    shouldn’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se words mean exactly the same thing, but the contraction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should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shorter and it sounds less formal or more like real speec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’ll practice the piano tod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’ll practice the piano today.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(I wil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don’t watch televis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’ll practice the piano today.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(I wil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don’t watch television.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(do no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ouldn’t tease animal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’ll practice the piano today.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(I wil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don’t watch television.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(do no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ouldn’t tease animals.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(should no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Verdana"/>
                <a:ea typeface="Arial"/>
              </a:rPr>
              <a:t>apologiz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a – pol – o - giz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you say you are sorry for doing or saying something that has upset someone, you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apologiz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 that per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will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apologiz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 my friend for speaking in a mean t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will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apologiz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 my mom for not putting my toys a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1240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aren’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 n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isn’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n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wouldn’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uld n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257800" y="1523520"/>
            <a:ext cx="3200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he’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 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she’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e 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it’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47920" y="1447920"/>
            <a:ext cx="3047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couldn’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uld n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didn’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d n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wasn’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n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57800" y="1447560"/>
            <a:ext cx="3200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we’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 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we’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 ha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you’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 wi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sm and Fanta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morrow we will  read about children who started groups that help other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dnesda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4479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 journal entry about a practical joke you playe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someone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ursda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066680" y="2133720"/>
          <a:ext cx="6934320" cy="370044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bout some young people and their ideas. They started some important groups that made a difference. How can you make a difference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ursda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066680" y="2133720"/>
          <a:ext cx="6934320" cy="370044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bout some young people and their 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idea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They started some 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important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roups that made a difference. How can you make a difference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you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wel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w, au, augh, 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3048120" y="1600200"/>
          <a:ext cx="3262320" cy="467532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log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iz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dg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ru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ublemak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Troublemaker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knew the plumber would close the door behind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 brought a thick cable to hang the sig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promise I will not giggle, mumble, talk, or wrigg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must wrap my knee with a little tape the minute I get h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Verdana"/>
                <a:ea typeface="Arial"/>
              </a:rPr>
              <a:t>citize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cit - i – z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You are a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citiz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of a country if you were born there or if you are legally accepted by a country to be a citiz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friend goes to school in the United States but is a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citiz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of Sp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You must be a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citiz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n order to vo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rry, I forgot the knife for cutting the limb that was caught on the roof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t the gnome and the wreath in the yard by the auto so everybody will see the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990720" y="1752480"/>
          <a:ext cx="2514600" cy="41911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u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3733920" y="1523880"/>
          <a:ext cx="4572000" cy="46753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                ta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        th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           fa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            laun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ppla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k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die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lk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k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5" descr="Student Pages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5" descr="Student Pages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686800" cy="708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auto accident was  he’s fawl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The auto accident was   his faul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e did n’t read those 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He didn’t read the sig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0033"/>
                </a:solidFill>
                <a:latin typeface="Arial"/>
              </a:rPr>
              <a:t>	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con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a short way to put two words toget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apostroph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*) takes the place of one or more lett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Contraction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an be formed by putting together a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pronou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another word, such as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will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are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ould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ive me a 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ould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ive me a 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ould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ive me a 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judgment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(or judgement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judg - 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people make decisions about what is sensible, they use their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judg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Use good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judg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when you decide what color to paint the ro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you tell the truth, you use good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judg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ould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ive me a 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ould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ive me a 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does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ant to bake a cak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ould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ive me a 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ould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ive me a 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does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ant to bake a cak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does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ant to bake a cak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I’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a pl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I’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a pl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I a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a pl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I’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a pl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a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a pl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y’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be home so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I’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a pl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a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a pl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y’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be home so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y wi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be home so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ing 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read a story about a signmaker’s assistant who got into trouble.  Tomorrow we will read about Norman ag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ursda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447920" y="25909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a difficult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ision you made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iday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447920" y="20574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week we read about troublemakers.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often use bad judgment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 do the wrong thing.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can you do when you 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ke a mistake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you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wel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w, au, augh, 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Frequency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Best Judgment"/>
          <p:cNvPicPr/>
          <p:nvPr/>
        </p:nvPicPr>
        <p:blipFill>
          <a:blip r:embed="rId1"/>
          <a:srcRect l="0" t="0" r="0" b="8504"/>
          <a:stretch/>
        </p:blipFill>
        <p:spPr>
          <a:xfrm>
            <a:off x="3657600" y="533520"/>
            <a:ext cx="4495680" cy="5778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259056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sten to this song about what to  do if you’ve done something  wrong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6" name="DefaultOcx" descr=""/>
          <p:cNvPicPr/>
          <p:nvPr/>
        </p:nvPicPr>
        <p:blipFill>
          <a:blip r:embed="rId2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3048120" y="1600200"/>
          <a:ext cx="3262320" cy="467532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log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iz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dg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ru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ublemak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990720" y="1752480"/>
          <a:ext cx="2514600" cy="41911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u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3733920" y="1523880"/>
          <a:ext cx="4572000" cy="46753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                ta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        th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           fa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            laun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ppla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k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die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lk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k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 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see the bald man waltz with his daugh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 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see th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a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n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walt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his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daugh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aused and caught a look at the little fa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 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see th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a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n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walt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his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daugh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pau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cau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look at the littl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faw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drove her auto because she had to get a ma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 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see th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a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n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walt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his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daugh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pau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cau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look at the littl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faw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drove her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au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ecau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e had to get a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mal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 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see th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a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n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walt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his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daugh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pau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cau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look at the littl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faw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drove her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au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ecau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e had to get a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mal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ut some salt and sauce on the raw m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 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see th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a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n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walt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his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daugh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pau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cau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look at the littl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faw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drove her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au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ecau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e had to get a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mal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ut som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al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au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th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ra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2895480" y="1523880"/>
          <a:ext cx="3353040" cy="465156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67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hi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ybo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i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2971800" y="1676520"/>
          <a:ext cx="3352680" cy="41385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1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orta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mak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wnspeo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terno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a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ound does the letters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w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mak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day we will study the different spellings that stand for this sou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wnspeople, important, signmaker, ideas, blame, afterno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job in which someone makes something with words and mess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wnspeople, important, signmaker, ideas, blame, afterno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job in which someone makes something with words and messages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signmak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omes between morning and eve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wnspeople, important, signmaker, ideas, blame, afterno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job in which someone makes something with words and messages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signmak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omes between morning and evening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afterno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fill your head when you are thin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wnspeople, important, signmaker, ideas, blame, afterno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job in which someone makes something with words and messages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signmak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omes between morning and evening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afterno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fill your head when you are thinking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ide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wnspeople, important, signmaker, ideas, blame, afterno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individuals live together in a t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wnspeople, important, signmaker, ideas, blame, afterno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individuals live together in a town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townspeop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word that means “faul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wnspeople, important, signmaker, ideas, blame, afterno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individuals live together in a town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townspeop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word that means “fault.”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bl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rd means the opposite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m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itt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wnspeople, important, signmaker, ideas, blame, afterno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individuals live together in a town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townspeop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word that means “fault.”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bl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rd means the opposite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m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itt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importa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686800" cy="70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 useed chawk to draw a 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I used chalk to draw a sig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y goed the write wa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They went the right way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rap Up Your Week!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t’s Talk Ab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Respons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00040" y="533160"/>
            <a:ext cx="5334120" cy="60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udi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letter a followed by l or ll usually stands for the vowel sound in b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m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letters aw and au can stand for the vowel sound in b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w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w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u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au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u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en au is followed by gh, the au may stand for the vowel sound in ball, and the letters gh are sil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u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u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ugh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" descr="C:\Users\Freida Lewis\Desktop\sound cards\Card 4.jpg"/>
          <p:cNvPicPr/>
          <p:nvPr/>
        </p:nvPicPr>
        <p:blipFill>
          <a:blip r:embed="rId1"/>
          <a:stretch/>
        </p:blipFill>
        <p:spPr>
          <a:xfrm>
            <a:off x="685800" y="533520"/>
            <a:ext cx="211464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4479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an unusual sign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ptPlus Videos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(password required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othy Goes to School: The School Play/Full of Beans (22:04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bur: Wilbur's Wobbly Bed / Wiggly Fun (22:04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ye Wonder: Billboards, Volcanoes, and Aquariums (26:5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on: Between People and Communities (12:12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4343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  <a:ea typeface="Arial"/>
              </a:rPr>
              <a:t>Vocabulary &amp; Amazing Word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rcade G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Jig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tch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ord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lling City: Amaz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lling City: Vocabular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715000" y="167652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  <a:ea typeface="Arial"/>
              </a:rPr>
              <a:t>Spelling Wor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ia G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  <a:ea typeface="Arial"/>
              </a:rPr>
              <a:t>High Frequency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lling Cit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Verdana"/>
              </a:rPr>
              <a:t>take our story tests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iz # 90463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ug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  cau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  sal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u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  sau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w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  ya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5252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l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aul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u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aw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l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819520" y="266688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0"/>
          <p:cNvSpPr/>
          <p:nvPr/>
        </p:nvSpPr>
        <p:spPr>
          <a:xfrm>
            <a:off x="2133720" y="3429000"/>
            <a:ext cx="761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2286000" y="411480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2438280" y="487692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33"/>
                </a:solidFill>
                <a:latin typeface="Verdana"/>
              </a:rPr>
              <a:t>Small</a:t>
            </a: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5400" spc="-1" strike="noStrike">
                <a:solidFill>
                  <a:srgbClr val="ff0033"/>
                </a:solidFill>
                <a:latin typeface="Verdana"/>
              </a:rPr>
              <a:t>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5400" spc="-1" strike="noStrike" u="sng">
                <a:solidFill>
                  <a:srgbClr val="00cccc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8120" y="1981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u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l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u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ught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 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 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 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 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 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 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 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 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4343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  <a:ea typeface="Arial"/>
              </a:rPr>
              <a:t>Vocabulary &amp; Amazing Word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rcade G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Jig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tch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ord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lling City: Amaz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lling City: Vocabular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715000" y="167652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  <a:ea typeface="Arial"/>
              </a:rPr>
              <a:t>Spelling Wor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ia G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  <a:ea typeface="Arial"/>
              </a:rPr>
              <a:t>High Frequency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lling Cit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m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m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way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m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way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m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wk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way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828800" y="1676160"/>
            <a:ext cx="2743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w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t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a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ugh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90720" y="1752480"/>
          <a:ext cx="2514600" cy="41911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u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733920" y="1523880"/>
          <a:ext cx="4572000" cy="46753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                ta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        th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           fa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            laun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ppla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k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die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lk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k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alism and Fantas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nitor and Fix Up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a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orace and Morris but mostly Dol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kinds of animals are the characters, and what are some of the things they 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animals really talk and join club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this story really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alism and Fantas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nitor and Fix Up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ff0033"/>
                </a:solidFill>
                <a:latin typeface="Arial"/>
              </a:rPr>
              <a:t>realistic sto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ells about something that could really happ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</a:t>
            </a:r>
            <a:r>
              <a:rPr b="0" i="1" lang="en-US" sz="3200" spc="-1" strike="noStrike">
                <a:solidFill>
                  <a:srgbClr val="ff0033"/>
                </a:solidFill>
                <a:latin typeface="Arial"/>
              </a:rPr>
              <a:t>realistic sto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people are like people we k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ay and do things like real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ff0033"/>
                </a:solidFill>
                <a:latin typeface="Arial"/>
              </a:rPr>
              <a:t>fantas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make-belie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</a:t>
            </a:r>
            <a:r>
              <a:rPr b="0" i="1" lang="en-US" sz="3200" spc="-1" strike="noStrike">
                <a:solidFill>
                  <a:srgbClr val="ff0033"/>
                </a:solidFill>
                <a:latin typeface="Arial"/>
              </a:rPr>
              <a:t>fantas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imals might ta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ssible things might happ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alism and Fantas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nitor and Fix Up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keep track of how well we understand a story by stopping when something doesn’t make se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we can “fix” what we don’t understand by changing how we read or by asking ques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Student Pages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048120" y="1600200"/>
          <a:ext cx="3262320" cy="467532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log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iz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dg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ru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ublemak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 have a foto of a dolfi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I have a photo of a dolphi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t was tuff to take a pi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It was tough to take a pictur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con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a short way to put two words toget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apostroph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*) takes the place of one or more lett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Contraction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an be formed by putting together a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pronou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another word, such as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will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are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Do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an be shortened into one word, or a contraction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apostroph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ill take the place of the letter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the word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y contractions like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do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re formed with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verb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the word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We wi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lean up the m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We’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lean up the m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ould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have done tha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ould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have done tha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’s, I’ll, didn’t, don’t, she’s, we’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’s mother said, 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o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o too far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’s, I’ll, didn’t, don’t, she’s, we’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’s mother said, 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o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o too far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’s mother said, 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o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o too far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’s, I’ll, didn’t, don’t, she’s, we’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’s mother said, 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o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o too far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’s mother said, 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o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o too far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did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isten to her mot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’s, I’ll, didn’t, don’t, she’s, we’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’s mother said, 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o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o too far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’s mother said, 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o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o too far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did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isten to her mot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did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isten to her mot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’s, I’ll, didn’t, don’t, she’s, we’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e 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st in the pa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’s, I’ll, didn’t, don’t, she’s, we’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e 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st in the pa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e’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st in the pa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971800" y="1676520"/>
          <a:ext cx="3352680" cy="41385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1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orta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mak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wnspeo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terno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’s, I’ll, didn’t, don’t, she’s, we’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e 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st in the pa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e’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st in the pa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We ar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oking for her everyw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’s, I’ll, didn’t, don’t, she’s, we’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e 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st in the pa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e’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st in the pa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We ar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oking for her everyw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We’r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oking for her everyw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’s, I’ll, didn’t, don’t, she’s, we’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ucky we found 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’s, I’ll, didn’t, don’t, she’s, we’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ucky we found 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’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ucky we found 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’s, I’ll, didn’t, don’t, she’s, we’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ucky we found 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’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ucky we found 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 said, “Next time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I wi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isten, Mom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’s, I’ll, didn’t, don’t, she’s, we’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ucky we found 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’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ucky we found 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 said, “Next time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I wi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isten, Mom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 said, “Next time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I’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isten, Mom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wel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w, au, augh, 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sm/Fanta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morrow we will read about a signmaker’s assistant and how he helps out or doesn’t help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nda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295280" y="2438280"/>
          <a:ext cx="6096240" cy="32371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3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 paragraph about a time when you had to apologize for something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uesda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066680" y="2057400"/>
          <a:ext cx="6934320" cy="370044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ll about Norman. He makes an awful mistake and causes everybody to get upset. Have you ever caused someone to be upset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uesda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066680" y="2057400"/>
          <a:ext cx="6934320" cy="370044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l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bout Norman. He makes an 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ful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istake and 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cause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verybody to get upset. Have you ever 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caus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omeone to be upset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895480" y="1523880"/>
          <a:ext cx="3353040" cy="465156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67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hi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ybo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i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you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wel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w, au, augh, 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und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16002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Verdana"/>
                <a:ea typeface="Arial"/>
              </a:rPr>
              <a:t>hoar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hoar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If you </a:t>
            </a:r>
            <a:r>
              <a:rPr b="1" lang="en-US" sz="3000" spc="-1" strike="noStrike">
                <a:solidFill>
                  <a:srgbClr val="ffff00"/>
                </a:solidFill>
                <a:latin typeface="Verdana"/>
                <a:ea typeface="Arial"/>
              </a:rPr>
              <a:t>hoard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something, you collect it and store it away. Often this can be food or money, and sometimes it is done secretl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My brother likes to </a:t>
            </a:r>
            <a:r>
              <a:rPr b="1" lang="en-US" sz="3000" spc="-1" strike="noStrike">
                <a:solidFill>
                  <a:srgbClr val="ffff00"/>
                </a:solidFill>
                <a:latin typeface="Verdana"/>
                <a:ea typeface="Arial"/>
              </a:rPr>
              <a:t>hoard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candy in his roo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My dog </a:t>
            </a:r>
            <a:r>
              <a:rPr b="1" lang="en-US" sz="3000" spc="-1" strike="noStrike">
                <a:solidFill>
                  <a:srgbClr val="ffff00"/>
                </a:solidFill>
                <a:latin typeface="Verdana"/>
                <a:ea typeface="Arial"/>
              </a:rPr>
              <a:t>hoards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bones in his doghous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The king liked to </a:t>
            </a:r>
            <a:r>
              <a:rPr b="1" lang="en-US" sz="3000" spc="-1" strike="noStrike">
                <a:solidFill>
                  <a:srgbClr val="ffff00"/>
                </a:solidFill>
                <a:latin typeface="Verdana"/>
                <a:ea typeface="Arial"/>
              </a:rPr>
              <a:t>hoard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gold coi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Verdana"/>
                <a:ea typeface="Arial"/>
              </a:rPr>
              <a:t>scol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sc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you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scold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people, you tell them off or discipline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know Mom will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scol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me for eating cookies before a me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teacher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scold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me for not doing my home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Verdana"/>
                <a:ea typeface="Arial"/>
              </a:rPr>
              <a:t>interrup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in – ter - ru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you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interrup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, you stop someone who is talking or you stop something that is happe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Do not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interrup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other people while they are tal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he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interrupt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e speaker with a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Hoot and Holler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Hat Dan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ugh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read this word because you know how to read words with the /o/ soun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ound does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aug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k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 come to a new word, look at the letters from left to right and think about the vowel sound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y the sounds to yourself and then read the wo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40972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m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ugh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augh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und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ln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uaw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8" descr="Phonics Songs and Rhymes Chart 25"/>
          <p:cNvPicPr/>
          <p:nvPr/>
        </p:nvPicPr>
        <p:blipFill>
          <a:blip r:embed="rId1"/>
          <a:stretch/>
        </p:blipFill>
        <p:spPr>
          <a:xfrm>
            <a:off x="4191120" y="609480"/>
            <a:ext cx="4029120" cy="57103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31240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isten for words with the /aw/ sound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Find words with this sound in “Tall Paul.”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m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u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ugh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wf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952880" y="19810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u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la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90720" y="1752480"/>
          <a:ext cx="2514600" cy="41911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u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733920" y="1523880"/>
          <a:ext cx="4572000" cy="46753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                ta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        th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           fa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            laun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ppla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k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die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lk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k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990720" y="1752480"/>
          <a:ext cx="2514600" cy="41911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u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3733920" y="1523880"/>
          <a:ext cx="4572000" cy="46753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                ta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        th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           fa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            laun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ppla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k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die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lk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k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38512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ig Question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happens when we do the wrong thing?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aw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aw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aw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raw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aw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raw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ught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August I like to draw on the walk with chal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like Ann because she likes to tal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not launch the toy near the auto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aught the football the way Dad taught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uild Background: 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urpose of Sig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71" name="Picture 6" descr="Webbing Tool Screenshot"/>
          <p:cNvPicPr/>
          <p:nvPr/>
        </p:nvPicPr>
        <p:blipFill>
          <a:blip r:embed="rId1"/>
          <a:stretch/>
        </p:blipFill>
        <p:spPr>
          <a:xfrm>
            <a:off x="2666880" y="2743200"/>
            <a:ext cx="373392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ide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thought or opin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importa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taken serious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bla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to say that something is someone’s fau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signmak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someone who makes signs or public notices that giv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townspeop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people who live in a t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afterno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the time of day between noon and n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assista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someone who helps someone else do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wisdo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knowledge based on experi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feverishl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done with great excitement or a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esson Vocabula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47920" y="1523520"/>
            <a:ext cx="3124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d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fterno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r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ort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morr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h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28840" y="1523520"/>
            <a:ext cx="342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ldn’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gnmak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tch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wnspeo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ord Structu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strategies to use when you come across words you don’t underst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we can get the meaning from word pa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may understand th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ase wo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prefi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tie, the opposite of ti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or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uffix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lowly, in a slow wa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look for the shorter words in a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compou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 we will learn more about compou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nda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2438280"/>
          <a:ext cx="6096240" cy="3213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taught to do the right thing. Sometimes it's hard though. What happens when we do the wrong thing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5" descr="Student Pages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6840" y="533520"/>
            <a:ext cx="838188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t was a rough hike to the clif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It was a rough hike to the cliff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fone sounded phunn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The phone sounded funn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con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a short way to put two words toget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apostroph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*) takes the place of one or more lett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Contraction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an be formed by putting together a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pronou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another word, such as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will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are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Vocabul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 and Fix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morrow we will hear about a spider who learns a les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uesda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4479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a time when a sign helped you know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to go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dnesda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523880" y="236232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'll read more about Anansi. His mama says, "Don't eat my stew!“ Anansi doesn't obey her though. Why do we have rules to obey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dnesda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523880" y="236232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we'll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ead more about Anansi. His mama says, "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Don't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at my stew!“ Anansi 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doesn't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obey her though. Why do we have rules to obey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you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, gh /f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wels aw, au, augh, 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und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16002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Verdana"/>
                <a:ea typeface="Arial"/>
              </a:rPr>
              <a:t>prote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ro - tes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If you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rotest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, you tell or show how you disagree about something you think is not righ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He tried to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rotest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when his parents grounded hi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The neighbors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rotested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the building of a nearby factor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1-03-05T09:31:22Z</dcterms:modified>
  <cp:revision>30</cp:revision>
  <dc:subject/>
  <dc:title>Slide 1</dc:title>
</cp:coreProperties>
</file>